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8B5B1-CA3F-4C64-94E9-9E3E581BF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93C1-6CA5-4A54-B261-E430C119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FAD91-367C-4C64-A79C-0C45A2309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DD985-F0A8-48CE-AE37-EC0AA3A89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A7A3D-EC16-4B12-B523-0AB982C4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C5B1C-AE7D-4E4D-9DB1-489D0CAC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52DD-B0C7-40F6-9341-C4B4958CA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845E-1A4A-43B9-8FC2-FBFDC735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B15F8-96CF-4A72-BDB0-8A97E4987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9DE5D-CA21-4B35-BA11-7B54F7CD4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7D2B-56FC-47EF-AE6A-A95510248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8EF7-D7F2-469A-9070-DD542B5EC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8FAF-D83D-4475-910D-9842CF6CFC9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3"/>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1"/>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1T09:11:34Z</dcterms:modified>
  <cp:revision>161</cp:revision>
  <dc:subject/>
  <dc:title>Diapositiva 1</dc:title>
</cp:coreProperties>
</file>